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png" ContentType="image/png"/>
  <Override PartName="/ppt/media/image7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056D-76B8-4A6C-AE7E-D10A1B7A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D808-DC69-47AA-8A76-A15A9A1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DF1E-BFB9-444D-AB03-29A08110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E419-7120-4A39-A018-54F3F520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3A8D-F23C-4DD9-9513-2FA2645B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A973-C8F6-4DF5-AEE2-54A2E708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C1E-7367-4D5A-852E-59ACF29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481A-1E87-4FFC-800A-34297D4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7F2-1566-4B34-B5CA-13223181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99EA-492E-4F35-8A79-37FE38A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C5D0-7486-4A8A-B3D1-3D9F082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AB8B-003D-4E17-8F04-5C072D5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313-3F1A-463B-A145-A854892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573-15E8-4FE4-8A7F-B55EC66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681-D805-428E-833E-9A0486D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E655-6137-42FA-AD1F-D7C568A6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B47-93B7-4894-A189-514DFCD8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AABE-B0C4-469D-A417-BEBDDC4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F2D7-8825-43DF-90F9-B151FA8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FFF2-1530-42AB-B3A5-F7BA951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51E8-3AEC-4E91-A23B-5197A03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F9CE-FFDB-41EA-AEDE-01469BF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6A63-C603-4944-9A46-73C3D9F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B158-8FE1-4991-9557-6BBEE57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CCCA-1753-42C4-BBC7-1A570C2955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086-6842-4ED5-95B8-AF7699AB333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dfdef6"/>
                </a:solidFill>
                <a:latin typeface="Arial"/>
              </a:rPr>
              <a:t>Дијагностика ране трудноће и методе праћења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ф др А.Живано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естови за детекцију бета субјединице: антитела која настају имунизацијом животиња (поликлонална) или антитела која натају хибридном техником (моноклонал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нхибиција аглутин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адиоимуноесе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зим повезан имуносорбент тест (ЕЛИЗ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иохемијска трудно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ктопична трудно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естацијске трофобласт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гермином, ембрионални карцином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7" descr="Urin test 2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urin test +1"/>
          <p:cNvPicPr/>
          <p:nvPr/>
        </p:nvPicPr>
        <p:blipFill>
          <a:blip r:embed="rId2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Сигур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егистровање срчане акције пл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алпирање активних покрета пл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лтразвучна дијагно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etal_heart_rate"/>
          <p:cNvPicPr/>
          <p:nvPr/>
        </p:nvPicPr>
        <p:blipFill>
          <a:blip r:embed="rId4"/>
          <a:stretch/>
        </p:blipFill>
        <p:spPr>
          <a:xfrm>
            <a:off x="457200" y="2352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вом триместр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Утврђивање и лоцирање трудноће – искључити ектопични гравидите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виабилтета плода – дијагноза изосталог побачај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Одређивањ гестационе старости трудноће и термина порођаја – мања трудноћа прецизнији парамет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остиковање мултиплих трудно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овање туморозних промена на материци и јајницима током трудн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на аномалије током првог триместран (Нухална транслуценција, аненцефалус итд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нтервентни ултразвук (биопсија хорионских чуп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за моларне трудн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1"/>
          <a:stretch/>
        </p:blipFill>
        <p:spPr>
          <a:xfrm>
            <a:off x="1225440" y="1600200"/>
            <a:ext cx="2502000" cy="2190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2"/>
          <a:stretch/>
        </p:blipFill>
        <p:spPr>
          <a:xfrm>
            <a:off x="5261040" y="1600200"/>
            <a:ext cx="2813040" cy="2190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"/>
          <p:cNvPicPr/>
          <p:nvPr/>
        </p:nvPicPr>
        <p:blipFill>
          <a:blip r:embed="rId3"/>
          <a:stretch/>
        </p:blipFill>
        <p:spPr>
          <a:xfrm>
            <a:off x="457200" y="4056120"/>
            <a:ext cx="4038480" cy="1963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"/>
          <p:cNvPicPr/>
          <p:nvPr/>
        </p:nvPicPr>
        <p:blipFill>
          <a:blip r:embed="rId4"/>
          <a:stretch/>
        </p:blipFill>
        <p:spPr>
          <a:xfrm>
            <a:off x="5816520" y="3943440"/>
            <a:ext cx="1701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embrion uz1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аћењ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Одређивање гестационе старости плода у другом триместру 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(+/- 10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ана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Бипаријетални дијаметар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обим главе и абдомена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дужина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emur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на анома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pina bifida,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рчане мане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номалије бубрега, екстремитета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крининг за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plac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evi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Цервикографија – дужина и облик грлића матери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препарталних крварења из матери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феалног раста током трудноће: симетричан и асиметрича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јагностика полихидрамниона, олигоамниона као и појаве феталног хидроп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нтервентни ултразвук за амниоцентезу и кордоцентез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Ултразвук у праћењу трудноћ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стања пл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mniotic fluid index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или највећи промер плодове в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и дисајни покре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и покрети и тонус (биофизички профил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Проучавање протока (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Doppler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Умбиликална артер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етална средња церебрална артер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Дуктус артериоз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ртерије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terin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поремећаја положаја и налегања пл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Интервентни ултразвук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Трансфузија код хидропса, катетеризација код хидронефрозе, касна амниоцентеза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тадирање зрелости постељице </a:t>
            </a: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контрадикторни ставови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Дијагностика постпарталних промена на материц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Биопсија хорионских чупиц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308480" y="1125000"/>
            <a:ext cx="48355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енетске и хромозомске особине хорионског ткива су идентичне феталн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ohr 1968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рви узео део хориона фрондозума уз помоћ хистероско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спирација ћелија хорион фрондозума из средишњег дела будућих котиледона (мања могућност погрешних резулта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рансабдоминално или трансвагинал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cvs2"/>
          <p:cNvPicPr/>
          <p:nvPr/>
        </p:nvPicPr>
        <p:blipFill>
          <a:blip r:embed="rId5"/>
          <a:stretch/>
        </p:blipFill>
        <p:spPr>
          <a:xfrm>
            <a:off x="457200" y="252252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Индикације за биопсију хорионских чупиц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риотип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арост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тходно дете са хромозомским аномал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анслокација или друге хромозомопат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пола (хемофил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метаболичких поремећаја (активност ензима код сфинголипидоза, олигосахаридоза, аминоацидопатија, гликогеноза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НК анализе генских локуса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Duchenova paraliza, Phenylketonuria, Beckerova mišićna distrofija, Citična fibroza, hemoglobinopatije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еталне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Трудноћа је физиолошко стањ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7163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јагноза трудноће је обично веома једноставна у клиничкој пракс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докрине, физиолошке и анатомске промене које се јављају у трудноћи доводе до знакова и симптома, које делимо у три групе: несигурне, вероватне и сигур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profimedia-0031791661"/>
          <p:cNvPicPr/>
          <p:nvPr/>
        </p:nvPicPr>
        <p:blipFill>
          <a:blip r:embed="rId3"/>
          <a:stretch/>
        </p:blipFill>
        <p:spPr>
          <a:xfrm>
            <a:off x="969840" y="1600200"/>
            <a:ext cx="3013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7" descr="Kariotip"/>
          <p:cNvPicPr/>
          <p:nvPr/>
        </p:nvPicPr>
        <p:blipFill>
          <a:blip r:embed="rId1"/>
          <a:stretch/>
        </p:blipFill>
        <p:spPr>
          <a:xfrm>
            <a:off x="2666880" y="1731960"/>
            <a:ext cx="38102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Ра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514836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старији инвазивни дијагностички поступ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877. Трансабдоминалу амниоцентезу описа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Prochownick, Von Schatz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Lamb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66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ee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Bre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у први култивисали феталне ћелије из амниона и одређивали кариотип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ancet, "Chromosome analysis of human amniotic-fluid cell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972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ens Ban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Allen Northeved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и користили ултразвук за амниценте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6" descr="amniocenteza1"/>
          <p:cNvPicPr/>
          <p:nvPr/>
        </p:nvPicPr>
        <p:blipFill>
          <a:blip r:embed="rId5"/>
          <a:stretch/>
        </p:blipFill>
        <p:spPr>
          <a:xfrm>
            <a:off x="0" y="1773360"/>
            <a:ext cx="4038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Ра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глом за пункцију под контролом ултразвука улази се у амнинску шупљину око 17. недеље гестац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спирација 10 до 20 ццм плодове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гативних трудница после интервенције обавезна имунопрофила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нализа ћелијске култу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риотип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етаболички поремећа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еђивање генетских ло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trizomija 21kariogram"/>
          <p:cNvPicPr/>
          <p:nvPr/>
        </p:nvPicPr>
        <p:blipFill>
          <a:blip r:embed="rId1"/>
          <a:stretch/>
        </p:blipFill>
        <p:spPr>
          <a:xfrm>
            <a:off x="3048120" y="1322280"/>
            <a:ext cx="30477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Биохемијска испитивања амнионске теч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зије ЦНС-а: алфа-фетопротеин, ацетилхолин естера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ремећај феталних бубрега: алфа1-антитрипсин, трансферин, албуми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етаболички поремећаји: ацидоаминопатије/мукополисахаридо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генитална хиперплазија надбубрега: 17-хидроксипрогесте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уковисцидо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сна амни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елост феталних плућа (Л/С одн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цена оштећења плода 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оимунизације (билируб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јагноза амнионске инфек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мниоинфуз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5" descr="vagina_4by5"/>
          <p:cNvPicPr/>
          <p:nvPr/>
        </p:nvPicPr>
        <p:blipFill>
          <a:blip r:embed="rId5"/>
          <a:stretch/>
        </p:blipFill>
        <p:spPr>
          <a:xfrm>
            <a:off x="457200" y="2046240"/>
            <a:ext cx="4038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ордоценте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355640" y="1125000"/>
            <a:ext cx="46198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траутерусно узимање узорка феталне кр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 се под контролом ултразвука, после 22. недеље гест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гле за пункцију од 20 до 24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жа техника узимања узорка – једноставнија за цитогенетска испитива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зик од феталних компликација: фетална хеморагија, тромбоза крвних судова пупчаника, рефлексна брадикард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5" descr="CC1"/>
          <p:cNvPicPr/>
          <p:nvPr/>
        </p:nvPicPr>
        <p:blipFill>
          <a:blip r:embed="rId6"/>
          <a:stretch/>
        </p:blipFill>
        <p:spPr>
          <a:xfrm>
            <a:off x="771480" y="1962000"/>
            <a:ext cx="3409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Индикације за кордоценте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еуспела култура амнионских ћелиј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озаицизам утврђен претходном амницентезом или биопсијом хорионских чуп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везани за фрагилни Х хромозом (Мартин Бел синдром менталне ретардац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са хромозомском нестабилношћ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Фанконијева анемија (панцитопенија, микроцефалија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loom-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синдром (низака раст, кожа осетљива на сунце, повећана инциденца тумо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Ксеродерма пигментозум (фотосензитивност и рани натанак малигних тумо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Атаксија телеангиектазија (лимфоми, карцином желуц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индроми са малим хромозомским делецијама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: аниридија/вилмсов тумор (делеција 11п), Ретинобластома (делеција 13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q) Prader-Willi Sy (del15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лтразвучно откривене феталне аномалије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: Омфалокела, цистични хигром, неимунолошки хидропс, дуденална атрезија, анална атрезија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еобјашњени интраутерусни застој у расту пл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dfdef6"/>
                </a:solidFill>
                <a:latin typeface="Arial"/>
              </a:rPr>
              <a:t>Анатомске и физиолошке промене жене у трудноћ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ф др А.Живанови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Материц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ертрофија и дилатација: до 20 недеље гестације долази до повећања запремине материце хиперплазијом (размножавањем ћелија), после долази до хипертрофије. Утерус у термину тежак око 1.100.гр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величини, облику и позицији: до 12. н.г. у малој карлици. У 6. лунарном месецу у нивоу пупка, 9. лунарни месец у нивоу ребарних лук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контрактилности глатке мишићне ћелије: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raxton Hicks (1872) –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ритмичне, спорадичне контракције чији интензитет варира од 5 до 2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H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појачава се учесталост са растом трудно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на грлићу материце: током трудноће долази до смањивања односа мишићно/везивне компонен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Несигурни симптом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учнина са или без повраћања. Најчешће се јављају јутарње мучнине, које почињу око 6. недеље гест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честало мокрење, које настаје услед притиска гравидне материце на мокраћну бешику (први тиместа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сећај ум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сећај феталних покрета (“оживљавање” 16. до 20. недеље гестац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7" descr="Nausea-and-vomiting"/>
          <p:cNvPicPr/>
          <p:nvPr/>
        </p:nvPicPr>
        <p:blipFill>
          <a:blip r:embed="rId5"/>
          <a:stretch/>
        </p:blipFill>
        <p:spPr>
          <a:xfrm>
            <a:off x="662040" y="1600200"/>
            <a:ext cx="3627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Абдоминални зид и кож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triae Gravidarum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посебно у другој половини трудноће у пределу абдомена, груди и бу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стаз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.rectus abdomini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од минималних промена код прворотки до хернијација код вишеротки (висећи трбу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игментације – због повећаног лучењ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SH, E2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inea ni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hloa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жне васкуларне промене због хиперестрогенем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скулар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pider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в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almarni eri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Промене метаболизма у трудноћ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ње телесне масе – фетус 3.400г, Плацента 650г, амнионска течност 800г, Материца 970 г, дојке 405 г, крв 1450г, ектраваскуларна течност 1480г, масно ткиво 3345г : укупно идеално 12.5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воде: повећана је ретенција воде током трудноће. Смањена осмоларност плазме (за 10 мОсм/кг) повећава осећај жеђи и секрецију вазопресина. Повећава се количина воде у организму (3,5 л фетус, плацента и плодова вода. 3 литра у крвотоку, материци и дојкама). Повећан унос соли може довести до патолошког нагомилавања воде и ед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протеина: у термину фетус и постељица садрже око 500 г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Промене метаболизма у трудноћ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масти: концентрација липида, липопротеина и аполипопротеина током трудноће расте.  Ниво холестерола се мења током трудноће. Концентрациј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D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расте и постже највећи ниво око 32. н.г.(користи се за синтезу прогестерона у постељици). Настаје услед ефекта естрогена и прогестерона на ћелије јетре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D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повећава све до 22-24н.г. због деловања естрогена. Касније долази до његовог пада због повећане резистенције на инсулин и повећане концентрације инсулина у плаз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аболизам минерала: током трудноће постоји повећана потреба за уносом гвожђа и калциј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Метаболизам угљених хидра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бог присутног хуманог плацентног лактогена у нормалној трудноћи долази до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мерене хипогликемије у периоду када се не узима х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тпрандијалне хипер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еринсулин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бог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PL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роватно постоји хипертрофија и хиперплазија бета ћелија панкреаса – повећана концентрација инсулина у плазми са већом супресијом глукагона – због одржавања постпрандијалне концентрације гликозе код фету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рдиоваскуларни систем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чана фреквенција се повећава током трудноће и достиже током трећег триместра повећањ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15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ткуцаја/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in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дносу на базалну лин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ртеријски крвни притисак се смањује з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5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15 mmHg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оком другог триместра са повратком на нормалне вредности у термину порођа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Циркулаторни волумен се повећава з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50%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главном повећањем волумена плазме што доводи до хемодилуције 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„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е анем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трудноћ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ематокрит у трећем триместру ј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0,3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промене су битне како би се смањио укупан губитак еритроцита током крварења у порођају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Кардиоваскуларни систем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чани излазни волумен крви се повећава током трудноће, тако да достиж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20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 30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ће вредности, а крајем трећег триместра чак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0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ће вредности у односу на стање пре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ko 25%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циркулаторног волумена одлази за потребе материц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трећем триместру материца механички, може притиском на вену каву да редукује венск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put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срце, уколико трудница лежи на леђ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- sindrom vene ca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и васкуларни систем постељице је максимално дилатиран и не поседује значајну ауторегулаторну резер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Несигур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останак менструације (секундарна аменореј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дојкама у смислу увећања, појачане пигментације око ареола и  појаве колостр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а боје вагиналне слузокоже, постаје ливидна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hadwick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 знак -188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на пигментација коже, линеа фуска, појава стр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Areola dojki"/>
          <p:cNvPicPr/>
          <p:nvPr/>
        </p:nvPicPr>
        <p:blipFill>
          <a:blip r:embed="rId5"/>
          <a:stretch/>
        </p:blipFill>
        <p:spPr>
          <a:xfrm>
            <a:off x="457200" y="2976480"/>
            <a:ext cx="40384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fdef6"/>
                </a:solidFill>
                <a:latin typeface="Arial"/>
              </a:rPr>
              <a:t>Вероватни знаци трудноћ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ње обима абдомена, после 12. недеље гестације када материца излази из мале карл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мене у величини, облику и конзистенцији материце. Бимануелним прегледом могу се описати Хегаров знак размекшања истмуса и Пискачеков знак асиметричног увећања матер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мекшавање грлића матер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Braxton Hicks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контра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зитиван балотман плода у односу на матер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крини тестови – откривање присуства хуманог хорионског гонадотроп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hegarov znak"/>
          <p:cNvPicPr/>
          <p:nvPr/>
        </p:nvPicPr>
        <p:blipFill>
          <a:blip r:embed="rId1"/>
          <a:stretch/>
        </p:blipFill>
        <p:spPr>
          <a:xfrm>
            <a:off x="3019320" y="1298520"/>
            <a:ext cx="3105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irose (1919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казао трофички ефекат ткива хумане плаценте на материцу и јајник зеч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sheim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ondek (1927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“хормон трудноће” из урина гравидних жена имали су исти ефекат на јајнике зеч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ey 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938) доказао да се овај хормон лучи у ћелијама трофобласта (култура тки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ндукција овулације код зечица са урином трудних жена је био стандардни тест више од 40 година (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-Z test, Friedman-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 тест) – биолошки тест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ликопротеин који луче ћелије синцициотрофобласта, почиње да се ствара већ у периоду имплант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же се детектовати у крви труднице у периоду од осам до девет дана од овул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хормона расте рапидно до 60 – 70 дана трудноће, затим благо опада до 100-130 дана када задржава константне вредности до краја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центрација у урину прати концентрацију у крви (садржина ХХГ у је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м литру плазме је једнака садржини у 24. часовном узорку у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fdef6"/>
                </a:solidFill>
                <a:latin typeface="Arial"/>
              </a:rPr>
              <a:t>Хумани Хорионски Гонадотропи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ликопротеин који се састоји од 244 аминокиселине са молекуларном масом од 36.7 к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етеродимер са две субједин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лфа субјединица иста као и код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H, FSH, T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eta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убјединица специфична, садржи 145 аминокиселина које су производ шест хомологих гена који се налазе на 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ромоз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имулиш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LHCG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ецепторе на жутом телу и доводи до повећаног стварања прогестер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00:50Z</dcterms:created>
  <dc:creator>Zivanovic</dc:creator>
  <dc:description/>
  <dc:language>en-US</dc:language>
  <cp:lastModifiedBy>ASUS</cp:lastModifiedBy>
  <dcterms:modified xsi:type="dcterms:W3CDTF">2014-04-01T18:07:07Z</dcterms:modified>
  <cp:revision>3</cp:revision>
  <dc:subject/>
  <dc:title>Дијагностика ране трудноће и методе праћења</dc:title>
</cp:coreProperties>
</file>